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2.wmf" ContentType="image/x-wmf"/>
  <Override PartName="/ppt/media/image7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AE74-9A9A-4128-B745-25A611D3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716F-CE38-4E1C-A820-63AE9DBA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5C27E-9242-4989-B48A-E03A083D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286C4-24EF-4E52-9A9A-7638986D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DEC86-C84B-43AE-B1E8-2DDB9B08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C1E71-6C54-4B53-8D13-71FA78D3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1100D-3A1C-495E-ACEB-1D849ED7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865E3-6E99-4069-B0E8-94344C95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83C07-BD8D-41D8-974B-C70C099E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79522-C6BD-4D81-8089-4DD408E08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1C9A1-1D0D-43FD-886D-E612B2C4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B5451C-E8CB-4651-9497-CDBFE95EA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875C-C48D-4DE3-BFF6-C6AFD396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6FEF1-6D7E-4249-AEBF-DAB811A4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8FB0D-A292-4143-BD96-34BF9990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F3836-F654-4741-8ADB-E6DBEE41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17AD2-F067-4F9E-93F1-9F031129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B7245-80D2-4638-A98C-224226A2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1CA28-858E-46D9-89ED-9AA66215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FBA63-4F3C-4383-961A-89E57347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41463-C4AA-4C1F-8D2B-4C8FD6EE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2EC087-EEAB-456A-BB2C-467E848B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EFEC4-A5F3-4002-9A92-E0605608D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4CF2-FA6E-442E-96D6-92B91100E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2794C-96FF-4D67-8327-E7DC9F3E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FA145-1E41-49E5-8294-23F793DEB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77FD3-C019-48AE-BF27-5B3C6A27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36CC7-63FD-4CE3-B21B-8CB884E2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43ED9-A4B6-4E98-982C-BC2460F8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B60CD5-8743-4B74-9624-75D9CCD9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B8E23-413A-418E-8EA3-531DF98E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CD6B6-5182-4380-A9F8-A7369A3D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0FABE-E85A-49B4-89C2-A41F62C5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3DDF6-F678-4795-B9D5-49112CD1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3734-5AC9-4BAD-8734-CFB98767F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C5884-4EB5-45A8-9664-7632EB57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93B5B-4E74-4C62-8FD8-23F8F4886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130FB-462C-4EB5-81E6-25D0237D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1AA052-8602-4887-98E9-7F71811B3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FEC78-F448-4828-B4E3-05A57EA0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54CB9-9B9B-49B7-AD4E-E1841481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BA8417-6DA2-4954-A4EA-1646D19C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84E5B5-B286-4D8F-BC2D-C2945279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0B2D51-A46E-4E20-A1F1-88B39241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A8AAD3-26EE-48DC-AFBF-3BFFC223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CCF1-D041-4930-A7F7-131034B0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52B3B4-50D1-45E7-953D-9671C6C4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1C704-677E-4105-9707-5DAFB8C9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57889-4191-48B8-81C4-44FFD274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6B7629-D386-450B-A299-91D3CDBD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49291-7624-44AC-8BE1-AC03A3A39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7A6C-CB0D-448A-AE4F-43D2A30F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FA7D-2616-4A56-8533-279135F4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38EB-D839-4CA4-A7FB-3889E7F8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8351-7136-472A-B336-1BAD77C8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23FC-5135-4639-AC07-9824B0AC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B743-4321-4FA8-A91C-8D1C6E1F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65C3-3EF2-4272-9E35-3603B6F3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DCEF-E9D3-47D0-860B-E2C15E5C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D065-5700-4586-B7B0-3559A0EA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9F76-DE7F-45EC-A061-B0644E13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5408-3FAF-49F3-8AAD-3005B2DA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1E523-1C43-4116-ACE6-EB637E82B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62174-8A53-443F-B5D5-383AA9B7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637D7-4FBE-4A2B-9547-1B050E8A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C58F6-71EC-4E34-A60A-58FF6DBE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84560-1A15-4792-9927-538B3980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BF05-C02C-4DBA-8C20-31F50609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151FD-0FA5-4B06-A85D-6F509363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7C19D-7FA0-42A4-AD9E-7B984917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23F48-62F1-4043-B492-CD407226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FFC0B-8199-4A47-A3F8-9B1A4B5C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25CA4-23AD-46F7-B56D-A87AC316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E4154-4075-4725-9280-93EEC8D9B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D4B33-9460-4846-959E-973DB9440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520B2-08A4-477C-9DBA-7BB01E59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5232A-7442-4420-868D-F6E2F8B2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BAAEC-6954-479E-AE39-7F19778C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C9DC-F986-44D3-A12D-26F3D9B1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F253D-F9B0-4F06-BC14-BB87DA7D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0ECFB-7731-4B27-AA57-946D20BF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A69A7-4C0E-4B57-BD43-F3CC1774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2BC75-9C74-44FF-B594-D163C750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BB5DC-3418-4A53-A61A-C17D4061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4DC92-9A57-46E7-AB89-011BD9C2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F2644-A027-4618-97F6-FFD8CA0A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CB0A4-A2E2-4AF7-B233-2D6A5630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06EB1-1D2B-4CBE-B187-B2904527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42B21-97E0-496E-980F-54E173B38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0524-1974-4660-96AE-8BEB11AF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49C4F-4D37-4205-8740-AEFCED9A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9A218-90E0-4E0C-B0D7-C8D5D171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C81BD-D1BE-4F35-8EF1-8D5FCAF1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BCF81-BC8F-4232-A1B7-7C972E75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7451C-9AAC-4EE5-86F9-B3F3D641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6D1D6-51D8-4DF5-9EFA-7F43E475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98056-2C65-442E-A511-8A7B54E4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CFDDD-5CB4-402F-8EEA-FABF6160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8111D-B98A-4BBC-B54D-AC76F763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11496-CED3-4998-AE8A-07DBB3DAD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B6A6-84F2-4CBE-B694-AFEA9DAD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DD63C-A1F4-4DAD-B289-0CD212DF4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FC2FE-ED5D-414D-8B0D-E434375B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EC82A-5B54-4A37-AC87-5C990948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75B1B-D96A-4954-9EB6-34F6973C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1193A-6FCA-4D46-B922-92C8F1FD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D2AD3-B6C8-46F6-8ED6-D417C6D8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3F73C-1CA2-4FF1-8F5B-AD3A9AE5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9862F-F01C-4BE3-803F-125DE627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08F58-2B84-44AA-AFB8-62D9449B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49729-4123-43A6-8041-ADE8CBFC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EF71-26E8-4178-8409-16183A5A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6FDFD-EEA0-4BF6-8244-1DAE9610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3E367-F00C-4218-872E-936C155D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DE229-9846-43CC-BFA1-523AD0C8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4BA71-69C5-4220-9E22-5B686842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87C6D-AD47-405F-82C5-0BAC13A4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343B5-F32D-47EF-BC4B-E71C0C32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A1B6C-54FF-4D03-9624-96525CC6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1ABB4-FB9E-4A69-AEFB-21D1A159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C54D8-4D22-4DB0-81C4-0FC40BAB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4B981-84BD-4462-A464-5430195F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1529-1FCC-44BE-8D8B-A086EEFF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34DFC-EAAB-4423-952A-97DFE701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7330E-E027-431E-A982-B7E97115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734EF-A0AA-4251-A887-7BF2B1F0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0D716-D4E2-437B-B9E2-F5DF56B14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A714C-EA5C-4AD4-8CD8-13FB88F5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B2A97-2763-4786-8254-07B11D35E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3BDB3-63BC-4881-9B44-C46250A1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E6C83-496D-414C-9F6E-6762D021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37993-730D-4DFD-B890-DFBEC9EA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5AEE2-4245-4A62-BBB8-9135E948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BFEF-82E6-40F8-B21E-B22A5878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94440-5592-4E9D-B3A8-FB14B340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7C25B-9CA1-402F-A7F1-A26A7B9E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562F3-2BEF-408A-9238-79284260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EA46B-8CCA-4522-A2D8-079C12A2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8040A-A5FE-4CDD-A0FA-E9E010ED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E324B-42A5-446D-835C-A3EC4CB24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2D0F1-C7FA-4A3F-A186-FCEB147BF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AEBD91-C7AD-4568-BCE9-3DC1873E1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377BC-37ED-465B-8AE2-26864E47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A45E7-D723-434B-A603-4DDA14C2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7DA1-BCEB-4CD5-BAC5-1E3358CF53C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7D70-3259-4DFA-8A76-93918D69B8E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031B-E4BC-47E8-BF63-F8634E6563B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ADF5-4307-44FC-863B-0B53453BCED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042C-C289-4E04-B53F-47E7A2999FE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DD2A-926A-41D8-B380-85327C14DEE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115A-6CD8-45BF-8954-7324DFA7348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4355-85A3-4E3D-8DA5-0708AB454F4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AA5D-FF86-4677-BB0F-D17968AEB4B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BE44-D35F-4650-BE67-B19FAD2F540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5DF5-08F9-494C-9E79-745876EB170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FD8F-3561-452B-B33D-C48515C79BB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Arial"/>
                <a:ea typeface="Arial"/>
              </a:rPr>
              <a:t>Pretvorbe energij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Arial"/>
                <a:ea typeface="Arial"/>
              </a:rPr>
              <a:t>Energ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4"/>
          <p:cNvSpPr/>
          <p:nvPr/>
        </p:nvSpPr>
        <p:spPr>
          <a:xfrm>
            <a:off x="380880" y="144792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oje se pretvorbe energije događaju kada se penješ na tobogan i spuštaš niz njeg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2895480" cy="4078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5" descr=""/>
          <p:cNvPicPr/>
          <p:nvPr/>
        </p:nvPicPr>
        <p:blipFill>
          <a:blip r:embed="rId2"/>
          <a:stretch/>
        </p:blipFill>
        <p:spPr>
          <a:xfrm>
            <a:off x="4343400" y="2743200"/>
            <a:ext cx="2828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756720"/>
            <a:ext cx="822960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f6228"/>
                </a:solidFill>
                <a:latin typeface="Arial"/>
                <a:ea typeface="Arial"/>
              </a:rPr>
              <a:t>Pretvorba rada u kinetičku energij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ounded Rectangle 5"/>
          <p:cNvSpPr/>
          <p:nvPr/>
        </p:nvSpPr>
        <p:spPr>
          <a:xfrm>
            <a:off x="685800" y="5029200"/>
            <a:ext cx="2895480" cy="7621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D MIŠIĆNE S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ounded Rectangle 6"/>
          <p:cNvSpPr/>
          <p:nvPr/>
        </p:nvSpPr>
        <p:spPr>
          <a:xfrm>
            <a:off x="5105520" y="5029200"/>
            <a:ext cx="3733560" cy="7621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INETIČKA ENERGIJA LO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ight Arrow 7"/>
          <p:cNvSpPr/>
          <p:nvPr/>
        </p:nvSpPr>
        <p:spPr>
          <a:xfrm>
            <a:off x="3962520" y="525780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bf1de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7" descr="vaterpolo-udarac"/>
          <p:cNvPicPr/>
          <p:nvPr/>
        </p:nvPicPr>
        <p:blipFill>
          <a:blip r:embed="rId1"/>
          <a:stretch/>
        </p:blipFill>
        <p:spPr>
          <a:xfrm>
            <a:off x="457200" y="1828800"/>
            <a:ext cx="3200400" cy="21286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lopta"/>
          <p:cNvPicPr/>
          <p:nvPr/>
        </p:nvPicPr>
        <p:blipFill>
          <a:blip r:embed="rId2"/>
          <a:stretch/>
        </p:blipFill>
        <p:spPr>
          <a:xfrm>
            <a:off x="3809880" y="2438280"/>
            <a:ext cx="108612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24312E-006 L 0.40729 0.00509 E">
                                      <p:cBhvr>
                                        <p:cTn id="14" dur="2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f6228"/>
                </a:solidFill>
                <a:latin typeface="Arial"/>
                <a:ea typeface="Arial"/>
              </a:rPr>
              <a:t>Pretvorba </a:t>
            </a:r>
            <a:r>
              <a:rPr b="0" lang="en-US" sz="3200" spc="-1" strike="noStrike">
                <a:solidFill>
                  <a:srgbClr val="4f6228"/>
                </a:solidFill>
                <a:latin typeface="Arial"/>
                <a:ea typeface="Arial"/>
              </a:rPr>
              <a:t>kinetičke energije u rad</a:t>
            </a:r>
            <a:r>
              <a:rPr b="0" lang="hr-HR" sz="3200" spc="-1" strike="noStrike">
                <a:solidFill>
                  <a:srgbClr val="4f6228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ounded Rectangle 5"/>
          <p:cNvSpPr/>
          <p:nvPr/>
        </p:nvSpPr>
        <p:spPr>
          <a:xfrm>
            <a:off x="5410080" y="1752480"/>
            <a:ext cx="2895840" cy="7621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D LOPTE NAD DRUGIM TIJEL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ounded Rectangle 6"/>
          <p:cNvSpPr/>
          <p:nvPr/>
        </p:nvSpPr>
        <p:spPr>
          <a:xfrm>
            <a:off x="304920" y="1752480"/>
            <a:ext cx="3733560" cy="7621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INETIČKA ENERGIJA LO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ight Arrow 7"/>
          <p:cNvSpPr/>
          <p:nvPr/>
        </p:nvSpPr>
        <p:spPr>
          <a:xfrm>
            <a:off x="4267080" y="205740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bf1de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8" descr=""/>
          <p:cNvPicPr/>
          <p:nvPr/>
        </p:nvPicPr>
        <p:blipFill>
          <a:blip r:embed="rId1"/>
          <a:stretch/>
        </p:blipFill>
        <p:spPr>
          <a:xfrm>
            <a:off x="3124080" y="2819520"/>
            <a:ext cx="2514600" cy="2143080"/>
          </a:xfrm>
          <a:prstGeom prst="rect">
            <a:avLst/>
          </a:prstGeom>
          <a:ln w="0">
            <a:noFill/>
          </a:ln>
        </p:spPr>
      </p:pic>
      <p:sp>
        <p:nvSpPr>
          <p:cNvPr id="519" name="TextBox 9"/>
          <p:cNvSpPr/>
          <p:nvPr/>
        </p:nvSpPr>
        <p:spPr>
          <a:xfrm>
            <a:off x="1326240" y="5334120"/>
            <a:ext cx="6808680" cy="947160"/>
          </a:xfrm>
          <a:prstGeom prst="rect">
            <a:avLst/>
          </a:prstGeom>
          <a:solidFill>
            <a:srgbClr val="ebf1de"/>
          </a:solidFill>
          <a:ln w="93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Kinetička energija je sposobnost tijela da zb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sv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ega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gibanja obavi rad na drugim tijel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f6228"/>
                </a:solidFill>
                <a:latin typeface="Arial"/>
                <a:ea typeface="Arial"/>
              </a:rPr>
              <a:t>Pretvorb</a:t>
            </a:r>
            <a:r>
              <a:rPr b="0" lang="en-US" sz="3200" spc="-1" strike="noStrike">
                <a:solidFill>
                  <a:srgbClr val="4f6228"/>
                </a:solidFill>
                <a:latin typeface="Arial"/>
                <a:ea typeface="Arial"/>
              </a:rPr>
              <a:t>e elastične energije</a:t>
            </a:r>
            <a:r>
              <a:rPr b="0" lang="hr-HR" sz="3200" spc="-1" strike="noStrike">
                <a:solidFill>
                  <a:srgbClr val="4f6228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ounded Rectangle 5"/>
          <p:cNvSpPr/>
          <p:nvPr/>
        </p:nvSpPr>
        <p:spPr>
          <a:xfrm>
            <a:off x="4952880" y="1752480"/>
            <a:ext cx="2895840" cy="7621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D NA LU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ounded Rectangle 6"/>
          <p:cNvSpPr/>
          <p:nvPr/>
        </p:nvSpPr>
        <p:spPr>
          <a:xfrm>
            <a:off x="4572000" y="3352680"/>
            <a:ext cx="3733920" cy="7621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ASTIČNA ENERGIJA L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ight Arrow 7"/>
          <p:cNvSpPr/>
          <p:nvPr/>
        </p:nvSpPr>
        <p:spPr>
          <a:xfrm rot="5400000">
            <a:off x="6095880" y="4495680"/>
            <a:ext cx="648000" cy="19080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ebf1de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8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040200" cy="2743200"/>
          </a:xfrm>
          <a:prstGeom prst="rect">
            <a:avLst/>
          </a:prstGeom>
          <a:ln w="0">
            <a:noFill/>
          </a:ln>
        </p:spPr>
      </p:pic>
      <p:sp>
        <p:nvSpPr>
          <p:cNvPr id="525" name="Rounded Rectangle 9"/>
          <p:cNvSpPr/>
          <p:nvPr/>
        </p:nvSpPr>
        <p:spPr>
          <a:xfrm>
            <a:off x="4572000" y="5029200"/>
            <a:ext cx="3733920" cy="7621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INETIČKA ENERGIJA STRIJ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ight Arrow 10"/>
          <p:cNvSpPr/>
          <p:nvPr/>
        </p:nvSpPr>
        <p:spPr>
          <a:xfrm rot="5400000">
            <a:off x="6095880" y="2819160"/>
            <a:ext cx="609480" cy="15264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ebf1de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457200" y="5334120"/>
            <a:ext cx="1066680" cy="0"/>
          </a:xfrm>
          <a:prstGeom prst="line">
            <a:avLst/>
          </a:prstGeom>
          <a:ln w="38160">
            <a:solidFill>
              <a:srgbClr val="104b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1.97085E-006 L 0.39167 1.97085E-006 E">
                                      <p:cBhvr>
                                        <p:cTn id="40" dur="2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1712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f6228"/>
                </a:solidFill>
                <a:latin typeface="Arial"/>
                <a:ea typeface="Arial"/>
              </a:rPr>
              <a:t>Energij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3"/>
          <p:cNvSpPr/>
          <p:nvPr/>
        </p:nvSpPr>
        <p:spPr>
          <a:xfrm>
            <a:off x="803160" y="1523880"/>
            <a:ext cx="7072200" cy="1191240"/>
          </a:xfrm>
          <a:prstGeom prst="rect">
            <a:avLst/>
          </a:prstGeom>
          <a:noFill/>
          <a:ln w="93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avlja li tijelo rad, energija mu se pritom smanj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oliko koliko iznosi obavljeni r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3"/>
          <p:cNvSpPr/>
          <p:nvPr/>
        </p:nvSpPr>
        <p:spPr>
          <a:xfrm>
            <a:off x="651960" y="3276720"/>
            <a:ext cx="693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zvor energije – tijelo koje obavlja 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matelj energije – tijelo na kojemu se obavlja 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4"/>
          <p:cNvSpPr/>
          <p:nvPr/>
        </p:nvSpPr>
        <p:spPr>
          <a:xfrm>
            <a:off x="759600" y="4952880"/>
            <a:ext cx="667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ergija  - fizikalna veličina (znak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mjerna jedinica energije džul (znak 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82368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f6228"/>
                </a:solidFill>
                <a:latin typeface="Arial"/>
                <a:ea typeface="Arial"/>
              </a:rPr>
              <a:t>Pretvorba rada u </a:t>
            </a:r>
            <a:r>
              <a:rPr b="0" lang="en-US" sz="3200" spc="-1" strike="noStrike">
                <a:solidFill>
                  <a:srgbClr val="4f6228"/>
                </a:solidFill>
                <a:latin typeface="Arial"/>
                <a:ea typeface="Arial"/>
              </a:rPr>
              <a:t>gravitacijsku </a:t>
            </a:r>
            <a:r>
              <a:rPr b="0" lang="hr-HR" sz="3200" spc="-1" strike="noStrike">
                <a:solidFill>
                  <a:srgbClr val="4f6228"/>
                </a:solidFill>
                <a:latin typeface="Arial"/>
                <a:ea typeface="Arial"/>
              </a:rPr>
              <a:t> energij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Rounded Rectangle 5"/>
          <p:cNvSpPr/>
          <p:nvPr/>
        </p:nvSpPr>
        <p:spPr>
          <a:xfrm>
            <a:off x="685800" y="5029200"/>
            <a:ext cx="2895480" cy="7621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D MIŠIĆNE S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ounded Rectangle 6"/>
          <p:cNvSpPr/>
          <p:nvPr/>
        </p:nvSpPr>
        <p:spPr>
          <a:xfrm>
            <a:off x="5105520" y="5029200"/>
            <a:ext cx="3733560" cy="7621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AVITACIJSKA  ENERGIJA LO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ight Arrow 7"/>
          <p:cNvSpPr/>
          <p:nvPr/>
        </p:nvSpPr>
        <p:spPr>
          <a:xfrm>
            <a:off x="3962520" y="525780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bf1de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8" descr=""/>
          <p:cNvPicPr/>
          <p:nvPr/>
        </p:nvPicPr>
        <p:blipFill>
          <a:blip r:embed="rId1"/>
          <a:stretch/>
        </p:blipFill>
        <p:spPr>
          <a:xfrm>
            <a:off x="2133720" y="1981080"/>
            <a:ext cx="481968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80880" y="69696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Arial"/>
                <a:ea typeface="Arial"/>
              </a:rPr>
              <a:t>Zakon očuvanja energije</a:t>
            </a:r>
            <a:r>
              <a:rPr b="0" lang="hr-HR" sz="3200" spc="-1" strike="noStrike">
                <a:solidFill>
                  <a:srgbClr val="4f6228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Picture 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5686560" cy="3562200"/>
          </a:xfrm>
          <a:prstGeom prst="rect">
            <a:avLst/>
          </a:prstGeom>
          <a:ln w="0">
            <a:noFill/>
          </a:ln>
        </p:spPr>
      </p:pic>
      <p:sp>
        <p:nvSpPr>
          <p:cNvPr id="539" name="TextBox 9"/>
          <p:cNvSpPr/>
          <p:nvPr/>
        </p:nvSpPr>
        <p:spPr>
          <a:xfrm>
            <a:off x="203400" y="5029200"/>
            <a:ext cx="8696880" cy="1191240"/>
          </a:xfrm>
          <a:prstGeom prst="rect">
            <a:avLst/>
          </a:prstGeom>
          <a:solidFill>
            <a:srgbClr val="ebf1de"/>
          </a:solidFill>
          <a:ln w="93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ergija se može pretvarati iz jednog oblika u drugi ili prenosi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 tijela na tijelo, ali ne može nestati ili ni iz čega nasta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5" descr="tobogan"/>
          <p:cNvPicPr/>
          <p:nvPr/>
        </p:nvPicPr>
        <p:blipFill>
          <a:blip r:embed="rId2"/>
          <a:stretch/>
        </p:blipFill>
        <p:spPr>
          <a:xfrm>
            <a:off x="4724280" y="1447920"/>
            <a:ext cx="4038840" cy="3359160"/>
          </a:xfrm>
          <a:prstGeom prst="rect">
            <a:avLst/>
          </a:prstGeom>
          <a:ln w="0">
            <a:noFill/>
          </a:ln>
        </p:spPr>
      </p:pic>
      <p:sp>
        <p:nvSpPr>
          <p:cNvPr id="541" name="Line 6"/>
          <p:cNvSpPr/>
          <p:nvPr/>
        </p:nvSpPr>
        <p:spPr>
          <a:xfrm>
            <a:off x="2438280" y="22096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"/>
          <p:cNvSpPr/>
          <p:nvPr/>
        </p:nvSpPr>
        <p:spPr>
          <a:xfrm>
            <a:off x="2057400" y="35053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8"/>
          <p:cNvSpPr/>
          <p:nvPr/>
        </p:nvSpPr>
        <p:spPr>
          <a:xfrm>
            <a:off x="2057400" y="44956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Box 3"/>
          <p:cNvSpPr/>
          <p:nvPr/>
        </p:nvSpPr>
        <p:spPr>
          <a:xfrm>
            <a:off x="272520" y="1676520"/>
            <a:ext cx="8722800" cy="91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Je li jednako povećanje gravitacijske energije tijela vatrogasa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ako se vatrogasci penju iz prizemlja na prvi ka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a) stubama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b) ljestvam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2.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je se pretvorbe energije događaju u žarulji koja svijetl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je se pretvorbe događaju pri skakanju dječaka na trampolin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Opišite pretvorbe energije pri njihanju na ljuljačk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Opišite pretvorbe energije koje se događaju bacanjem lopte uv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piši pretvorbe energije koje se događaju bacanjem lopte uv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dredi gravitacijsku energiju torbe mase 0,5 kg koja se nalazi n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olici visine 1,2 m iznad tl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Slika 1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273528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41:32Z</dcterms:created>
  <dc:creator>Slavko</dc:creator>
  <dc:description/>
  <dc:language>en-US</dc:language>
  <cp:lastModifiedBy>Tomislav Dumančić</cp:lastModifiedBy>
  <dcterms:modified xsi:type="dcterms:W3CDTF">2019-09-17T08:59:46Z</dcterms:modified>
  <cp:revision>42</cp:revision>
  <dc:subject/>
  <dc:title>Slide 1</dc:title>
</cp:coreProperties>
</file>